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icture of Kids playing sports.  They are wearing protective eyewear."/>
          <p:cNvPicPr/>
          <p:nvPr/>
        </p:nvPicPr>
        <p:blipFill>
          <a:blip r:embed="rId2"/>
          <a:stretch/>
        </p:blipFill>
        <p:spPr>
          <a:xfrm>
            <a:off x="6629400" y="5257800"/>
            <a:ext cx="2438280" cy="154296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0" y="5715000"/>
            <a:ext cx="7848720" cy="1143000"/>
          </a:xfrm>
          <a:prstGeom prst="rtTriangle">
            <a:avLst/>
          </a:prstGeom>
          <a:solidFill>
            <a:srgbClr val="f79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9"/>
          <p:cNvSpPr/>
          <p:nvPr/>
        </p:nvSpPr>
        <p:spPr>
          <a:xfrm>
            <a:off x="0" y="5257800"/>
            <a:ext cx="5715000" cy="1600200"/>
          </a:xfrm>
          <a:prstGeom prst="rtTriangle">
            <a:avLst/>
          </a:prstGeom>
          <a:solidFill>
            <a:srgbClr val="f79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Picture of children playing sports wearing protective eyewear.  Text reads: Gear Up!  There's more to lose than the game. Use protective eyewear."/>
          <p:cNvPicPr/>
          <p:nvPr/>
        </p:nvPicPr>
        <p:blipFill>
          <a:blip r:embed="rId2"/>
          <a:srcRect l="4651" t="0" r="2326" b="0"/>
          <a:stretch/>
        </p:blipFill>
        <p:spPr>
          <a:xfrm>
            <a:off x="0" y="0"/>
            <a:ext cx="9144000" cy="2174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National Eye Institute Logo"/>
          <p:cNvPicPr/>
          <p:nvPr/>
        </p:nvPicPr>
        <p:blipFill>
          <a:blip r:embed="rId3"/>
          <a:srcRect l="27453" t="17116" r="56864" b="-26660"/>
          <a:stretch/>
        </p:blipFill>
        <p:spPr>
          <a:xfrm>
            <a:off x="5943600" y="6172200"/>
            <a:ext cx="121932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National Eye Health Education Program Logo"/>
          <p:cNvPicPr/>
          <p:nvPr/>
        </p:nvPicPr>
        <p:blipFill>
          <a:blip r:embed="rId4"/>
          <a:srcRect l="51964" t="17116" r="25493" b="-4720"/>
          <a:stretch/>
        </p:blipFill>
        <p:spPr>
          <a:xfrm>
            <a:off x="7315200" y="6172200"/>
            <a:ext cx="175248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Futur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see.nei.nih.gov/" TargetMode="External"/><Relationship Id="rId2" Type="http://schemas.openxmlformats.org/officeDocument/2006/relationships/hyperlink" Target="http://www.nei.nih.gov/sports" TargetMode="External"/><Relationship Id="rId3" Type="http://schemas.openxmlformats.org/officeDocument/2006/relationships/hyperlink" Target="http://www.nei.nih.gov/sports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124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Md BT"/>
              </a:rPr>
              <a:t>Sports-Related Eye Injurie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utura Bk BT"/>
              </a:rPr>
              <a:t>What You Need to Know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Futura Bk BT"/>
              </a:rPr>
              <a:t>Tips for Prevention</a:t>
            </a:r>
            <a:r>
              <a:rPr b="0" lang="en-US" sz="3600" spc="-1" strike="noStrike">
                <a:solidFill>
                  <a:srgbClr val="ffffff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Protective Eyewe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All kids need protective eyewear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Ordinary prescription glasses do not provide adequate protection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Eyewear should be sport-specific and sit comfortably on the face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Protective eyewear is usually made of polycarbonate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Benefits of Protective Eyewear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69840" y="1523880"/>
            <a:ext cx="501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Many sports-related eye injuries result in permanent vision loss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Protective eyewear will keep you in the game rather than on the bench with an eye injury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114" name="Picture 8" descr="Picture of girl shooting a basketball."/>
          <p:cNvPicPr/>
          <p:nvPr/>
        </p:nvPicPr>
        <p:blipFill>
          <a:blip r:embed="rId1"/>
          <a:stretch/>
        </p:blipFill>
        <p:spPr>
          <a:xfrm>
            <a:off x="0" y="1295280"/>
            <a:ext cx="3200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Keeping Eyes Safe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69840" y="1523880"/>
            <a:ext cx="501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Talk to your eye care provider about the appropriate type of protective eyewear for your sport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Have an eye exam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117" name="Picture 6" descr="Picture of doctor and young boy."/>
          <p:cNvPicPr/>
          <p:nvPr/>
        </p:nvPicPr>
        <p:blipFill>
          <a:blip r:embed="rId1"/>
          <a:stretch/>
        </p:blipFill>
        <p:spPr>
          <a:xfrm>
            <a:off x="0" y="1289160"/>
            <a:ext cx="3200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Resources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Kids’ Website: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Futura Bk BT"/>
                <a:hlinkClick r:id="rId1"/>
              </a:rPr>
              <a:t>http://isee.nei.nih.gov</a:t>
            </a: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Webpage for Parents, Coaches, and Teachers: 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Futura Bk BT"/>
                <a:hlinkClick r:id="rId2"/>
              </a:rPr>
              <a:t>http://w</a:t>
            </a:r>
            <a:r>
              <a:rPr b="0" lang="en-US" sz="3000" spc="-1" strike="noStrike" u="sng">
                <a:solidFill>
                  <a:srgbClr val="009999"/>
                </a:solidFill>
                <a:uFillTx/>
                <a:latin typeface="Futura Bk BT"/>
                <a:hlinkClick r:id="rId3"/>
              </a:rPr>
              <a:t>ww.nei.nih.gov/sports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Sports and Eye Injuries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Eye injuries are the leading cause of blindness in children. 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Every 13 minutes, an ER in the United States treats a sports-related eye injury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Most eye injuries among kids aged 11 to 14 occur while playing sports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Sports and Eye Injuries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70200" y="1523880"/>
            <a:ext cx="52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Baseball is a leading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cause of eye injuries i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children 14 and under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Basketball is a leading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cause of eye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among 15- to 24-year-olds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92" name="Picture 5" descr="Girl holding baseball and glove wearing protective eyewear."/>
          <p:cNvPicPr/>
          <p:nvPr/>
        </p:nvPicPr>
        <p:blipFill>
          <a:blip r:embed="rId1"/>
          <a:stretch/>
        </p:blipFill>
        <p:spPr>
          <a:xfrm>
            <a:off x="0" y="1289160"/>
            <a:ext cx="32004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Financial Cost of Eye Injuries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ports-related eye injuries represent a significant eye health hazard worldwide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Sports-related eye injuries cost $175 to $200 million a year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Hockey face protectors have saved society $10 million a year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Use of protective eyewear can decrease insurance costs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Eye Exams</a:t>
            </a:r>
            <a:r>
              <a:rPr b="0" lang="en-US" sz="4000" spc="-1" strike="noStrike">
                <a:solidFill>
                  <a:srgbClr val="ffffff"/>
                </a:solidFill>
                <a:latin typeface="Futura Md B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70200" y="1523880"/>
            <a:ext cx="524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A comprehensive eye exam is important for everyone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Exams may detect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pre-existing eye conditions in athletes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Not all athletes have had their eyes examined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97" name="Picture 6" descr="Picture of a girl receiving an eye examination."/>
          <p:cNvPicPr/>
          <p:nvPr/>
        </p:nvPicPr>
        <p:blipFill>
          <a:blip r:embed="rId1"/>
          <a:stretch/>
        </p:blipFill>
        <p:spPr>
          <a:xfrm>
            <a:off x="0" y="1295280"/>
            <a:ext cx="32004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Md BT"/>
              </a:rPr>
              <a:t>Health Providers Should Advise</a:t>
            </a:r>
            <a:r>
              <a:rPr b="0" lang="en-US" sz="3600" spc="-1" strike="noStrike">
                <a:solidFill>
                  <a:srgbClr val="ffffff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9840" y="1523880"/>
            <a:ext cx="501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Family physicians, ophthalmologists, optometrists, and other health care providers play a critical role in advising patients to use protective eyewear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100" name="Picture 6" descr="Picture of an Eye Care Professional and young patient."/>
          <p:cNvPicPr/>
          <p:nvPr/>
        </p:nvPicPr>
        <p:blipFill>
          <a:blip r:embed="rId1"/>
          <a:stretch/>
        </p:blipFill>
        <p:spPr>
          <a:xfrm>
            <a:off x="0" y="1297080"/>
            <a:ext cx="32004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Md BT"/>
              </a:rPr>
              <a:t>Sports with the Highest Rate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a Md BT"/>
              </a:rPr>
              <a:t>of Eye Injuries</a:t>
            </a:r>
            <a:r>
              <a:rPr b="0" lang="en-US" sz="3600" spc="-1" strike="noStrike">
                <a:solidFill>
                  <a:srgbClr val="ffffff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69840" y="1523880"/>
            <a:ext cx="501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Baseball/Softball        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Ice Hockey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Racquet Sports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Basketball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103" name="Picture 7" descr="Picture of tennis racket, tennis ball, basketball, and baseball."/>
          <p:cNvPicPr/>
          <p:nvPr/>
        </p:nvPicPr>
        <p:blipFill>
          <a:blip r:embed="rId1"/>
          <a:stretch/>
        </p:blipFill>
        <p:spPr>
          <a:xfrm>
            <a:off x="0" y="1319040"/>
            <a:ext cx="3670200" cy="28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a Md BT"/>
              </a:rPr>
              <a:t>Sports with the Highest Rate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utura Md BT"/>
              </a:rPr>
              <a:t>of Eye Injuries</a:t>
            </a:r>
            <a:endParaRPr b="0" lang="en-US" sz="3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69840" y="1523880"/>
            <a:ext cx="501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Fencing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Lacrosse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Paintball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Boxing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106" name="Picture 6" descr="Picture of lacross stick and gloves"/>
          <p:cNvPicPr/>
          <p:nvPr/>
        </p:nvPicPr>
        <p:blipFill>
          <a:blip r:embed="rId1"/>
          <a:stretch/>
        </p:blipFill>
        <p:spPr>
          <a:xfrm>
            <a:off x="0" y="1352520"/>
            <a:ext cx="36702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a Md BT"/>
              </a:rPr>
              <a:t>Protective Eyewear</a:t>
            </a:r>
            <a:endParaRPr b="0" lang="en-US" sz="40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69840" y="1523880"/>
            <a:ext cx="501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Protective eyewear may prevent 90 percent of sports-related eye injuries.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Futur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utura Bk BT"/>
              </a:rPr>
              <a:t>Experts agree that protective eyewear must meet ASTM standards. </a:t>
            </a:r>
            <a:endParaRPr b="0" lang="en-US" sz="3000" spc="-1" strike="noStrike">
              <a:solidFill>
                <a:srgbClr val="000000"/>
              </a:solidFill>
              <a:latin typeface="Futura Bk BT"/>
            </a:endParaRPr>
          </a:p>
        </p:txBody>
      </p:sp>
      <p:pic>
        <p:nvPicPr>
          <p:cNvPr id="109" name="Picture 6" descr="Picture of goggles."/>
          <p:cNvPicPr/>
          <p:nvPr/>
        </p:nvPicPr>
        <p:blipFill>
          <a:blip r:embed="rId1"/>
          <a:stretch/>
        </p:blipFill>
        <p:spPr>
          <a:xfrm>
            <a:off x="291960" y="1998720"/>
            <a:ext cx="33213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42:30Z</dcterms:created>
  <dc:creator>akelley</dc:creator>
  <dc:description/>
  <dc:language>en-US</dc:language>
  <cp:lastModifiedBy>21563</cp:lastModifiedBy>
  <dcterms:modified xsi:type="dcterms:W3CDTF">2010-09-28T17:59:57Z</dcterms:modified>
  <cp:revision>36</cp:revision>
  <dc:subject/>
  <dc:title>Slide 1</dc:title>
</cp:coreProperties>
</file>